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C05-8780-4FB3-B12E-31E77EC4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F2A-4128-467D-8275-C6CA6FC2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ED8-58AF-4E1E-80BD-CA23DC4B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D41-E22E-4C81-9871-D76B050B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BCBE-F6D8-4E77-804E-952B7B57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ECF1-6225-4DE5-A57F-5C682104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7499-AA3F-48D8-9471-B8232A0D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F06D-406D-4B07-9889-0E196272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325F-8877-49F8-93D0-E60052CF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F33D-D148-4752-9100-518055BB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C6B8-618A-42FD-BB2A-6D95E9A4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249-383D-424F-A35E-B37A50CF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5F90-D1FF-451C-8BCE-733CC94B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CB5A-AF72-49D6-8E07-8E050240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CA42-E173-42E5-B66F-A5B3E78A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735B-E35F-4F30-8ED4-3D45E8A1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354B-33DF-4FE4-A9FC-8C733F9F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9FF-C78C-4462-958F-66A383D2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0CE-EC2D-43AB-BFDF-682413CC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21D-E553-419C-9E04-2A405E2A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E60-1C48-4534-A5C2-1B8CB48D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C25-0B03-453E-A8F1-5D2EDC37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CED-9774-4602-B5DA-2A8BA92C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4C9-8DDB-4519-81E2-143EA57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3C8A-102A-485F-A082-05DA89ED2C6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2A61-B348-4AE8-A510-2A2A99E3CF7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14760" cy="5975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755640" y="2781360"/>
            <a:ext cx="7704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ffff"/>
                  </a:solidFill>
                  <a:miter/>
                </a:ln>
                <a:solidFill>
                  <a:srgbClr val="0000ff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dobe Garamond Pro"/>
              </a:rPr>
              <a:t> </a:t>
            </a:r>
            <a:endParaRPr b="1" i="1" lang="en-US" sz="1800" spc="1" strike="noStrike">
              <a:ln w="15840">
                <a:solidFill>
                  <a:srgbClr val="00ffff"/>
                </a:solidFill>
                <a:miter/>
              </a:ln>
              <a:solidFill>
                <a:srgbClr val="0000ff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dobe Garamond Pro"/>
              <a:ea typeface="Adobe Garamond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ffff"/>
                  </a:solidFill>
                  <a:miter/>
                </a:ln>
                <a:solidFill>
                  <a:srgbClr val="0000ff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dobe Garamond Pro"/>
              </a:rPr>
              <a:t>В КОТОРОМ Я ЖИВУ</a:t>
            </a:r>
            <a:endParaRPr b="1" i="1" lang="en-US" sz="1800" spc="1" strike="noStrike">
              <a:ln w="15840">
                <a:solidFill>
                  <a:srgbClr val="00ffff"/>
                </a:solidFill>
                <a:miter/>
              </a:ln>
              <a:solidFill>
                <a:srgbClr val="0000ff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dobe Garamond Pro"/>
              <a:ea typeface="Adobe Garamond Pro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3640" y="1989000"/>
            <a:ext cx="223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ffff"/>
                  </a:solidFill>
                  <a:miter/>
                </a:ln>
                <a:solidFill>
                  <a:srgbClr val="0000ff">
                    <a:alpha val="7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dobe Garamond Pro"/>
              </a:rPr>
              <a:t>ДОМ,</a:t>
            </a:r>
            <a:endParaRPr b="1" i="1" lang="en-US" sz="1800" spc="1" strike="noStrike">
              <a:ln w="15840">
                <a:solidFill>
                  <a:srgbClr val="00ffff"/>
                </a:solidFill>
                <a:miter/>
              </a:ln>
              <a:solidFill>
                <a:srgbClr val="0000ff">
                  <a:alpha val="7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dobe Garamond Pro"/>
              <a:ea typeface="Adobe Garamon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3534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48736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5280" y="1916280"/>
            <a:ext cx="8325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одина - мать,  умей за неё постоя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4000" y="3284640"/>
            <a:ext cx="84484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одная сторона - мать, чужая - мачех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4653000"/>
            <a:ext cx="828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одину - мать умей защища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87280" y="476280"/>
            <a:ext cx="676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словиц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2754360" cy="280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3816360" cy="2222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395280" y="476280"/>
            <a:ext cx="828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имволика Республики Казахст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2754360" cy="280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755640" y="549360"/>
            <a:ext cx="770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ерб Республики Казахст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28796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24000" y="2806560"/>
            <a:ext cx="4392720" cy="2557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39640" y="692280"/>
            <a:ext cx="784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лаг Республики Казахст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22520" y="3805200"/>
            <a:ext cx="4309920" cy="27925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50920" y="1844640"/>
            <a:ext cx="5184720" cy="1960560"/>
            <a:chOff x="2050920" y="1844640"/>
            <a:chExt cx="5184720" cy="1960560"/>
          </a:xfrm>
        </p:grpSpPr>
        <p:sp>
          <p:nvSpPr>
            <p:cNvPr id="113" name=""/>
            <p:cNvSpPr/>
            <p:nvPr/>
          </p:nvSpPr>
          <p:spPr>
            <a:xfrm flipH="1">
              <a:off x="2050920" y="3805200"/>
              <a:ext cx="471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050920" y="1844640"/>
              <a:ext cx="2492280" cy="1960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4542840" y="1844640"/>
              <a:ext cx="2692440" cy="1960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764040" y="3805200"/>
              <a:ext cx="471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2914560" y="4363920"/>
            <a:ext cx="936720" cy="14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8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</a:t>
            </a:r>
            <a:endParaRPr b="1" lang="en-US" sz="1800" spc="1" strike="noStrike">
              <a:ln w="25560">
                <a:solidFill>
                  <a:srgbClr val="008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1628640"/>
            <a:ext cx="5113440" cy="216072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2920" y="4363920"/>
            <a:ext cx="648000" cy="14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8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25560">
                <a:solidFill>
                  <a:srgbClr val="008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506920" y="4363920"/>
            <a:ext cx="936720" cy="14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8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1" lang="en-US" sz="1800" spc="1" strike="noStrike">
              <a:ln w="25560">
                <a:solidFill>
                  <a:srgbClr val="008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42920" y="47628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у-ка, детки, молодцы!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тгадайте ребус вы!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9640" y="333360"/>
            <a:ext cx="784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да Республики Казахст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4640400"/>
            <a:ext cx="3174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Талдыкорган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1268280"/>
            <a:ext cx="2519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Караганда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4149720"/>
            <a:ext cx="1482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Тараз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2708280"/>
            <a:ext cx="2374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Шымкент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1773360"/>
            <a:ext cx="2760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Кызылорда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2133720"/>
            <a:ext cx="1543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Актау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42100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Атырау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4149720"/>
            <a:ext cx="234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Павлодар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2852640"/>
            <a:ext cx="3676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Семипалатинск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4713120"/>
            <a:ext cx="4052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Усть-Каменогорск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5721480"/>
            <a:ext cx="2270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Кокшетау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47640" y="1557360"/>
            <a:ext cx="2714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Актюбинск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5576760"/>
            <a:ext cx="2276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Костанай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537000"/>
            <a:ext cx="2076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Уральск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7280" y="3705120"/>
            <a:ext cx="3573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Петропавловск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7640" y="5289480"/>
            <a:ext cx="1755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Астана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5505480"/>
            <a:ext cx="2000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Times New Roman"/>
              </a:rPr>
              <a:t>Алматы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26920" y="404640"/>
            <a:ext cx="75852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стана - сердце Казахст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2180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284720" y="2781360"/>
            <a:ext cx="2065320" cy="2736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2065320" cy="2737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156360" y="3860640"/>
            <a:ext cx="2073240" cy="2592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39640" y="4076640"/>
            <a:ext cx="2916360" cy="2201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5364000" y="476280"/>
            <a:ext cx="2899080" cy="2187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2484360" y="1341360"/>
            <a:ext cx="20671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68360" y="1484280"/>
            <a:ext cx="7883640" cy="4752720"/>
            <a:chOff x="468360" y="1484280"/>
            <a:chExt cx="7883640" cy="47527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468360" y="1484280"/>
              <a:ext cx="7883640" cy="472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220120" y="3263400"/>
              <a:ext cx="4905360" cy="5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ff"/>
                  </a:solidFill>
                  <a:latin typeface="Times New Roman"/>
                </a:rPr>
                <a:t>КАЗАХСТАН</a:t>
              </a:r>
              <a:endParaRPr b="0" lang="en-US" sz="33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61200" y="5406480"/>
              <a:ext cx="175176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Киргизстан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69840" y="1950120"/>
              <a:ext cx="122616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</a:rPr>
                <a:t>Россия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37440" y="1763640"/>
              <a:ext cx="131364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</a:rPr>
                <a:t>Россия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20120" y="5211360"/>
              <a:ext cx="157644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Узбекистан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31720" y="5770440"/>
              <a:ext cx="2014560" cy="4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Туркменистан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88640" y="4279680"/>
              <a:ext cx="96336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Китай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1332000" y="476280"/>
            <a:ext cx="676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ши соседи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1700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Караганда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8360" y="306864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Атырау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3440" y="4365720"/>
            <a:ext cx="23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Астана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89800" y="4365720"/>
            <a:ext cx="285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Уральск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21080" y="177336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Семей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60360" y="2997360"/>
            <a:ext cx="274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Алматы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37080" y="5445000"/>
            <a:ext cx="20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Актау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187280" y="476280"/>
            <a:ext cx="676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1700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Россия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9080" y="292428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Китай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4880" y="4221000"/>
            <a:ext cx="377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Узбекистан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3800" y="4221000"/>
            <a:ext cx="293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Украина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160" y="1700280"/>
            <a:ext cx="38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Киргизстан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97800" y="2852640"/>
            <a:ext cx="46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Туркменистан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90880" y="5300640"/>
            <a:ext cx="304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Франция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187280" y="476280"/>
            <a:ext cx="676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170028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а) Конституция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1080" y="3068640"/>
            <a:ext cx="26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б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Устав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1800" y="4292640"/>
            <a:ext cx="327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) Приказ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187280" y="476280"/>
            <a:ext cx="676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170028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а) Семей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1080" y="3068640"/>
            <a:ext cx="302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б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Астана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1440" y="4292640"/>
            <a:ext cx="36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) Уральск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170028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а) День государства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1440" y="3068640"/>
            <a:ext cx="61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б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День республики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00360" y="4292640"/>
            <a:ext cx="636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) День демократии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0000" y="170028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а) тенге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1440" y="3068640"/>
            <a:ext cx="299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б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доллар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720" y="4292640"/>
            <a:ext cx="27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) рубль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1773360"/>
            <a:ext cx="78469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3333cc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цы!!!</a:t>
            </a:r>
            <a:endParaRPr b="0" lang="en-US" sz="1800" spc="1" strike="noStrike">
              <a:ln cap="rnd" w="12600">
                <a:solidFill>
                  <a:srgbClr val="3333cc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532720" y="6381720"/>
            <a:ext cx="23184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745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700280"/>
            <a:ext cx="828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Times New Roman"/>
              </a:rPr>
              <a:t>а) Новый год и День журавлей</a:t>
            </a:r>
            <a:endParaRPr b="0" lang="en-US" sz="4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2997360"/>
            <a:ext cx="646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б) Наурыз и Жаворонки</a:t>
            </a:r>
            <a:endParaRPr b="0" lang="en-US" sz="4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3840" y="4402080"/>
            <a:ext cx="8169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Times New Roman"/>
              </a:rPr>
              <a:t>в) День смеха и День скворцов</a:t>
            </a:r>
            <a:endParaRPr b="0" lang="en-US" sz="45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87280" y="476280"/>
            <a:ext cx="676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360" y="1916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Гитара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6520" y="371628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Балалайка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8720" y="1989000"/>
            <a:ext cx="253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Домбра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06520" y="3716280"/>
            <a:ext cx="29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Скрипка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170028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а) гвоздики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1080" y="3068640"/>
            <a:ext cx="40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б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тюльпаны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1080" y="4292640"/>
            <a:ext cx="385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) ромашки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170028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а) суслик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1440" y="306864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б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хорёк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2520" y="4292640"/>
            <a:ext cx="451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) тушканчик</a:t>
            </a:r>
            <a:endParaRPr b="0" lang="en-US" sz="5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763640" y="404640"/>
            <a:ext cx="504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Любить Родину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8360" y="1125360"/>
            <a:ext cx="820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начит жить с ней одной жизн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598920" cy="2698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716360" y="3716280"/>
            <a:ext cx="35276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37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17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900000" y="3573360"/>
            <a:ext cx="770436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4360" y="981000"/>
            <a:ext cx="784836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е молодцы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61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4360" y="404640"/>
            <a:ext cx="770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я родина - Казахста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50920" y="1773360"/>
            <a:ext cx="8532720" cy="4249440"/>
            <a:chOff x="250920" y="1773360"/>
            <a:chExt cx="8532720" cy="42494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250920" y="1773360"/>
              <a:ext cx="8532720" cy="42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147040" y="3363840"/>
              <a:ext cx="530928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ff"/>
                  </a:solidFill>
                  <a:latin typeface="Times New Roman"/>
                </a:rPr>
                <a:t>КАЗАХСТАН</a:t>
              </a:r>
              <a:endParaRPr b="0" lang="en-US" sz="33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54880" y="5280120"/>
              <a:ext cx="189612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Киргизстан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67600" y="2189880"/>
              <a:ext cx="132696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</a:rPr>
                <a:t>Россия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03120" y="2023200"/>
              <a:ext cx="14220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</a:rPr>
                <a:t>Россия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7040" y="5105520"/>
              <a:ext cx="170640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Узбекистан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3480" y="5605560"/>
              <a:ext cx="21805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Туркменистан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40720" y="4272480"/>
              <a:ext cx="104256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Китай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67564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522360"/>
            <a:ext cx="8280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8984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6:39:12Z</dcterms:created>
  <dc:creator>Irina</dc:creator>
  <dc:description/>
  <dc:language>en-US</dc:language>
  <cp:lastModifiedBy>REM</cp:lastModifiedBy>
  <dcterms:modified xsi:type="dcterms:W3CDTF">2009-02-23T20:12:42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